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7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291-DEC3-4285-B8F6-0877594E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CB6-54C6-4519-B332-192A7457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EB0-85AF-43F5-8AD2-41EF0A6E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410-3DCC-41E2-9EC6-ACEEAD3B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A4F4C-4A4E-49CB-B935-8577468F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138D5-ECB7-4E05-85E8-A8C1D8C1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7D62A-69D9-4CD6-A496-E1BED2BF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67AE8-ABAE-4F41-A096-E5F6C16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03F8-BADC-489C-91D1-231E3E37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B2BF8-D485-41BD-AEAC-D7D1FC2C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B601-9E58-4DCE-AFF5-6933CBD0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1B7-641C-47A2-9D19-F2821628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670B1-562E-418D-B872-DA53B3F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1F39-4093-4236-846C-F223B65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835F2-ABED-4B38-AA70-94232F2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5E7C5-7048-49DE-8128-2FC6BE59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C261C-A235-4239-84B1-5F31CEDD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5BD-9811-4052-96B8-E75D05D0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AE1-1496-43B4-B51B-B9BB0BA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3B9-B7E0-4525-97FC-059472A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446-3D6A-485A-B3B8-400442D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535-5F8D-40D5-BC43-3C079F3C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C58-841E-4651-8340-26877E81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522-D564-4CA3-A6D2-A402457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1270-2FB2-4174-8379-CA74CEBBD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B17-7D16-41CB-812E-D0E8E8CCD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ema.gov/kids/tsunam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Cindy Sal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vette Do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y Tlaz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evid R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5334120" cy="1843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Tsuna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ries of huge waves  cause by earthquake or volcano under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290680"/>
            <a:ext cx="4038480" cy="334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4680" y="5791320"/>
            <a:ext cx="3428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science.howstuffworks.com/nature/natural-disasters/tsunami2.ht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a Tsunam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earth unde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waves in deep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waves at shore 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in many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h different conti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 makes waves hig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200400" cy="264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10080" y="502920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cience.howstuffwork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rculanum"/>
              </a:rPr>
              <a:t>Effects of a Tsuna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could knock down a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sunamis can make many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ending how low or high the water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December 26 ,2004 a strong tsunami hit Asia and killed 200,000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76400" y="1905120"/>
            <a:ext cx="279864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19320" y="61722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tsunamis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erculanum"/>
              </a:rPr>
              <a:t>Safety Ti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51818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en for warning sir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out of the ocean as fast as you c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en to news or radi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in school you need to go with a teac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to higher floor or higher l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sunami’s can occur at day and n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3962520" cy="5257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658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rps.psu.edu/probing/tsunami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 Sir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10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5530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connect.in.com/tsunami-warning/images-tsunami-warning-system--1-257804088463.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burst Drink Helps You Run Away From Tsunamis !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1428840"/>
            <a:ext cx="761976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9246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66680" y="2819520"/>
            <a:ext cx="243864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172200" y="1981080"/>
            <a:ext cx="1359000" cy="3276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922320" cy="1523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630864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google.com/imgres?imgurl=http://www.dylanscandybar.com/resources/dylans/images/products/processed/301scandybar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62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4479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 all these ingredients together and you will run forever!!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ＭＳ Ｐゴシック"/>
                <a:hlinkClick r:id="rId2"/>
              </a:rPr>
              <a:t>http://www.fema.gov/kids/tsunami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ttp://www.google.com/imgres?imgurl=http://www.dylanscandybar.com/resources/dylans/images/products/processed/301scandybar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440" y="2338560"/>
            <a:ext cx="585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science.howstuffworks.com/nature/natural-disasters/tsunami2.h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4:50:31Z</dcterms:created>
  <dc:creator>D83  User</dc:creator>
  <dc:description/>
  <dc:language>en-US</dc:language>
  <cp:lastModifiedBy>D83  User</cp:lastModifiedBy>
  <dcterms:modified xsi:type="dcterms:W3CDTF">2010-10-28T15:24:50Z</dcterms:modified>
  <cp:revision>18</cp:revision>
  <dc:subject/>
  <dc:title>PowerPoint Presentation</dc:title>
</cp:coreProperties>
</file>